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BEC3-2D78-4E74-9BB3-B1927E1EE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B347-A194-4E76-B847-56E27E9CA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9CF1-C4F6-401E-8DDC-C3AB154BF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DB29-5538-4C68-ADA6-B970E58BE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4466-95F3-4BB4-BCC7-A06BD6FB4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B9FD-FCD1-4E7B-A42D-B3ABD8568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0144-D910-40C8-BB3D-C835F0D4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CF08-97BA-4A72-8641-022E088C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9D9A-AFBA-4009-8479-36E9CA5D8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1A85-DCF8-473F-BC90-161DE453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428E-CE3D-47AE-ADB8-DB086473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6030-EE66-48DA-9823-9DC59A37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C64C-C18F-489F-87DB-082F3CAE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EA17-2029-47F3-8456-ABA3B076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C3CE-FF3F-4A40-9044-CDF46351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C8B3-6F76-4FE1-9C30-F1762281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E0BB-68C8-4FD6-A62C-00850147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109B-67F9-47D0-A649-1E24354FE809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orc.jaxa.jp/ALOS/en/guide/forestmap_oct2010.htm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alibri"/>
              </a:rPr>
              <a:t>Forest Policy, Strategies and Laws of Ethiopia: Opportunities and Challenges to Developing the Sector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laku Bekele (WGCF-NR, Wondo Gene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btemariam Kassa (CIFOR, Addis Abab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entation at th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tional Dialog On Sustainable Agricultural Intensification in Ethiopia and its role on the climate resilient green economy initiative in Ethiop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3-24 July 2012, Addis Abab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. Relevant Policy Docu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712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1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current Forest Policy and Strate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ationa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ountry has not been able to harness the expected economic, social, and environmental benefits from the forest s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orestation and forest degradation deteriorate forest resources and increasingly undermine forest benefits the country could 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stainable utilization and development of forests is critical for continued economic development and to combating natural resources degrad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stainable forestry development requires active community particip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jor objec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meet public demand in forest and forest produc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enhance the socio-economic and environmental contribution of fores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ix focal areas of the poli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stering private forest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ing and extending technolog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anding mark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ministration and management of state fore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est prot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ilding data base on forest conservation, development and util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rate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 each of the policy focus areas, specific strategies have been indicated. E.g. under the first one (fostering private forest developmen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ing land avail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x incentives (until first harvest) – tax reduction for agroforestry pract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nder the required professional and technical sup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ignate productive forest areas within state fore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sure access to planting materials at fair pric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ate access to cred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uarantee ownership of any land with developed forest (including in state forest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2. The Forest Law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04920" y="99036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 Constitu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ticle 44 and 9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citizens have the right to live in a clean and healthy environ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government and citizens have the duty to protect the environ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ey aspects of the Forest Proclamation (No. 542/200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laced the previous forest procla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fined key terms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ree, forest, forest land, state forest, private forest, local communit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termined types of forest ownership – a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ivate and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 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motion of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est develop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moting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est technolo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moting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rket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forest produ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ligations of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ivate forest develo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Key aspects of the Forest Proclamation (contd.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ART 3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ation, demarcation and registration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ate fore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ervation, development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dministration of state fore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tilization of State fore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dministration of protected fore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ART 4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vention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orest fi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duction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ovement of forest produ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hibi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est guards and inspection of forest products mov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bligations to notify and incen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ower and duties of the Minist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ower and duties of Regional Sta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Key aspects of the Forest Proclamation (contd.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RT 4 (Contd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est Products movement perm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nal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peedy tri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Repeals and saving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Issuance of laws, regulations and directiv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taile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egul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- by the Council of Ministers (Yet to be enact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taile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irectiv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by the Ministry (yet to be issu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NO COMPREHENSIVE DIRECTIVES TO IMPLEMENT POLICY AND PROCLAMATION ON THE GROUND EVEN FIVE YEARS AFTER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3. Other relevant doc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8600" y="12193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ther relevant proclamations – 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nvestment, EIA, Rural Land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se and Admin, etc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ome 15 multilateral agreements (CBC, CCD, UNFCCC, CITES, .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FAPs (national and regional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Conservation Strateg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Environment Polic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ural development policies and strategie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Energy Polic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National Policy on Biodivers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Wildlife Policy and A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FYDPs – 2001-05, 2006-2010 (PASDEP), 2011-2015 (GTP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SLM framework – a 15-year program framewor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CRGE Strategy (2012-2025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+  Experiences to build on – MERET, PFM, Area Ex-closur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4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Questions that need to be rai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12193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policy statements and legal frame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good sectoral plans/programs to build 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questions to raise inclu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policies and strategies being implemented and tested on the ground to monitor policy outcom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extension agents getting the relevant info they ne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 we connect the dots (regarding tress and forests) in various plans and programs? And who should do tha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e other sectors (e.g. agriculture, energy, road, ..) done enough to support the forestry sector so that its contribution enhances their own achievements (e.g. hydropower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can opportunities created by the current massive land rehabilitation and tree planting and by the CRGE be ceased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Challenges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28600" y="12952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 regarding forest cover and its change remain scanty and wildly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pite official but vague definition, views differ in what forest is and therefore the figures being used about the forest co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te of deforestation being widely used is an old and less representative fig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adequate information on forest degradation and affores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ficial statistics hardly capture smallholder plan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S based data indicate that generally trees inside forests are declining while tress outside forests are increas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mallholder tree planting is expanding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1294920"/>
            <a:ext cx="71928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1600" spc="-1" strike="noStrike">
                <a:solidFill>
                  <a:srgbClr val="003300"/>
                </a:solidFill>
                <a:latin typeface="Calibri"/>
              </a:rPr>
              <a:t>Land use change within a 141,976 hectare forest area,</a:t>
            </a:r>
            <a:br>
              <a:rPr sz="1600"/>
            </a:br>
            <a:r>
              <a:rPr b="1" lang="en-US" sz="1600" spc="-1" strike="noStrike">
                <a:solidFill>
                  <a:srgbClr val="003300"/>
                </a:solidFill>
                <a:latin typeface="Calibri"/>
              </a:rPr>
              <a:t>1976-2010 </a:t>
            </a:r>
            <a:br>
              <a:rPr sz="1600"/>
            </a:br>
            <a:r>
              <a:rPr b="1" lang="en-US" sz="1600" spc="-1" strike="noStrike">
                <a:solidFill>
                  <a:srgbClr val="c00000"/>
                </a:solidFill>
                <a:latin typeface="Calibri"/>
              </a:rPr>
              <a:t>(Guillozet and Bliss, 2011)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42832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www.fao.org/forestry/foris/img/maps/forcov/fc60.gif"/>
          <p:cNvPicPr/>
          <p:nvPr/>
        </p:nvPicPr>
        <p:blipFill>
          <a:blip r:embed="rId1"/>
          <a:stretch/>
        </p:blipFill>
        <p:spPr>
          <a:xfrm>
            <a:off x="828720" y="0"/>
            <a:ext cx="5114880" cy="5114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" descr="http://www.fao.org/forestry/foris/img/maps/forcov/legend_en.gif"/>
          <p:cNvPicPr/>
          <p:nvPr/>
        </p:nvPicPr>
        <p:blipFill>
          <a:blip r:embed="rId2"/>
          <a:stretch/>
        </p:blipFill>
        <p:spPr>
          <a:xfrm>
            <a:off x="6324480" y="2590920"/>
            <a:ext cx="2819520" cy="1550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304920" y="542340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Forest Resources and Types of Ethiopi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FRA 200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est Policy – a historic perspec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evant Policy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urrent forest policy and strate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orest law – its key asp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relevant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estions that need to be rai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portun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5866920"/>
            <a:ext cx="8381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est and wood land cover of Ethiopia 2009 (Winberg, 201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74856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5791320"/>
            <a:ext cx="8610480" cy="83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orest and wood land cover of Ethiopia 2009 (Winberg, 20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631044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839080" cy="36576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"/>
          <p:cNvSpPr/>
          <p:nvPr/>
        </p:nvSpPr>
        <p:spPr>
          <a:xfrm>
            <a:off x="417600" y="4524480"/>
            <a:ext cx="8229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Global distribution of trees (percentage tree s in forests green) and on farm (re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Source: Composite of FAO’s 2005 Global Forest Resources Assessment and data from the World Agroforest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entre. Zomer, R.J. et al. 2009. Trees on farm: analysis of global extent and geographical patterns of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groforestry. ICRAF Working Paper No 89. World Agroforestry Centre, Nairob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ource:  http://www.eorc.jaxa.jp/ALOS/en/guide/forestmap_oct2010.htm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essed May 9, 201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Fig.3-2: Forest/Non-forest map in a typical tropical area (the enlarged images of Africa)"/>
          <p:cNvPicPr/>
          <p:nvPr/>
        </p:nvPicPr>
        <p:blipFill>
          <a:blip r:embed="rId2"/>
          <a:stretch/>
        </p:blipFill>
        <p:spPr>
          <a:xfrm>
            <a:off x="1752480" y="457200"/>
            <a:ext cx="450540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5714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ove Ground Biomass,  based on global biomass map of Baccini, 2012 (CIFOR, 2012 un published)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ethio_biomass2.jpg"/>
          <p:cNvPicPr/>
          <p:nvPr/>
        </p:nvPicPr>
        <p:blipFill>
          <a:blip r:embed="rId1"/>
          <a:stretch/>
        </p:blipFill>
        <p:spPr>
          <a:xfrm>
            <a:off x="380880" y="228600"/>
            <a:ext cx="762012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llenges (Contd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adequate attenti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the planners to the sector mainly due to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ndervaluation of the total economic value of forest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a2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rket failur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absence, distorted or weak markets for forest services); methodological challenges to in assigning monetary values to forest functions (biodiversity, watershed values, C sequestration, etc.); existence of externalities; conflicting demands/uses by different stakeholders, limited willingness to pay for environmental ser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Lack of direct investment by the State in large scale fores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outlook: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o virtue in untamed nature, still lingers among policy mak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licy makers not getting the right information on the short and long term costs and benefits of land use changes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long term costs of deforestation are hardly accounted fo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llenges (Contd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Failures in forest property rights </a:t>
            </a:r>
            <a:r>
              <a:rPr b="1" i="1" lang="en-US" sz="2100" spc="-1" strike="noStrike">
                <a:solidFill>
                  <a:srgbClr val="7e0018"/>
                </a:solidFill>
                <a:latin typeface="Calibri"/>
              </a:rPr>
              <a:t>-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re property rights are not well defined, an owner cannot expect to enjoy the benefits from long term investment as tree planting.  This applies for communal lands in particular.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4) Lack of capable and resourced institutions/ bureaucracy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o implementing relevant forestry policies and strategies on the ground, monitoring outcomes  of policy interventions and providing feedback for the policy cyc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5)  Under developed research in forest valuation and marke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6) Weak link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tween forestry institutions among themselves (research, education and extension) and with policy makers, NGOs and the private secto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Arial"/>
              </a:rPr>
              <a:t>7) The land rush, land to “investor” -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Arial"/>
              </a:rPr>
              <a:t>how best to manage this and its implication to forests – for better economic and conservation outcomes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pportun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entralized governance of natural resour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rowing demand (domestic and internationa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bundant labor and land as well as favorable climatic conditions for commercial forest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rained human resource in forestry &amp; N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eavy investment in infrastructure (e.g. dams, railways, highways) that require protection fores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overnment commitment and mass mobilization in land rehabilitation and tree planting activ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nd registration &amp; certification improved tenure security that strengthens farmers engagement in forestry development and sustainable land manag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01320" y="380520"/>
            <a:ext cx="8504280" cy="59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If there is any chance for forestry development in Ethiopia (taking the current supportive policies, government’s preference) it would mainly be with the community &amp; individual households, including the unemployed youth &amp;  the disadvantaged  wo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orest stand with its owner  at Munessa (2010)         Individual woodlot on highly  degraded land in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North Shewa (2005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272880" indent="-27288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90440" y="3733920"/>
            <a:ext cx="3962520" cy="2641320"/>
          </a:xfrm>
          <a:prstGeom prst="rect">
            <a:avLst/>
          </a:prstGeom>
          <a:ln w="0">
            <a:noFill/>
          </a:ln>
        </p:spPr>
      </p:pic>
      <p:pic>
        <p:nvPicPr>
          <p:cNvPr id="102" name="Content Placeholder 3" descr="Description: Description: F:\Degraded.TIF"/>
          <p:cNvPicPr/>
          <p:nvPr/>
        </p:nvPicPr>
        <p:blipFill>
          <a:blip r:embed="rId2"/>
          <a:stretch/>
        </p:blipFill>
        <p:spPr>
          <a:xfrm>
            <a:off x="4648320" y="3733920"/>
            <a:ext cx="443844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pportunities (contd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92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tablishment of forest enterpri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engagement of NGOs (REST, ORDA, 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recognition of the role of trees and forests for climate change mitigation and adap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ge potential for contributing to and benefit from other sectors (energy, agriculture, infrastructure…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evant experiences are building up (area ex-closures MERET, SLM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FM is given priority and the Govt is committed to scaling up good practices and lessons learnt from pilot PFM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 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10666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anaging ecological integrity is key to sustaining production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thiopia’s real GDP projected to grow by &gt; 8% p.a. for the coming 5 yea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is will significantly increase the national demand for wood and wood produ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e national wood and wood products import bill is rising sharply from about 15 million USD in 1995 to over 120 million in 20110/11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iomass still covers 95% of the national household energy demand (FDRE, 2011). In 2009, national fuelwood deficiency was estimated at 65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million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, &amp;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e gap between supply and demand wide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y 2030 fuelwood demand is estimated to be between 120 and 140 million 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eeting fuelwood demand by then would require having a min of 6-7 million ha of land under plantations (Zeleke et al, 2009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Zones where PFM is being implemented (Winberg, 20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295280" y="341280"/>
            <a:ext cx="612144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portunities (Con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The CRGE strategy identified forestry  as one of its four pill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tecting and re-establishing forests for their economic and ecosystem services including as carbon stocks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One of the four pillars of the CRGE, Page 2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ities to be undertaken include : “afforestation (2 million ha), reforestation (1 million ha), and forest management (2 million ha of forests and 2 million ha of woodlands) to increase carbon sequestration in forests and woodlands.” (CRGE Document, page 25 and page 3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ro forestry is also set to play major role in improving soil fertility and livestock feed availability, and in meeting household and market demands, and also in improving provid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37110"/>
                </a:solidFill>
                <a:latin typeface="Calibri"/>
              </a:rPr>
              <a:t>Agroforestry</a:t>
            </a: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Content Placeholder 5" descr="DSC00197"/>
          <p:cNvPicPr/>
          <p:nvPr/>
        </p:nvPicPr>
        <p:blipFill>
          <a:blip r:embed="rId1"/>
          <a:stretch/>
        </p:blipFill>
        <p:spPr>
          <a:xfrm>
            <a:off x="3809880" y="133200"/>
            <a:ext cx="5029200" cy="3770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Picture 024"/>
          <p:cNvPicPr/>
          <p:nvPr/>
        </p:nvPicPr>
        <p:blipFill>
          <a:blip r:embed="rId2"/>
          <a:stretch/>
        </p:blipFill>
        <p:spPr>
          <a:xfrm>
            <a:off x="152280" y="3371760"/>
            <a:ext cx="44197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ral good initiatives going on but poorly linked and coordinated to maximize efficiency/synergy and imp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ing the forestry sector requires much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re than promoting tree planting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ivities  or issuing relevant poli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estry development best serves society when it i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entered around smallholder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the experience of north Europe shows and when its ecological services are recognized and valu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policy and legal framework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plans and programs provide good basis for developing the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there i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uge gap in policy implement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lating policy to practice needs to be supported with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sourced and accountable institu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coordinate and lead the development of the forestry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clusion (Contd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liticians and technicians need t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ovide strong support to community and private forest/woodlots ow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uthorities need to come out with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more refined community (forest) right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o protect them from elite grab &amp; muddling of  the bureaucracy, &amp; to promote participation of the private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dvocacy groups and researchers need t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learn to appreciate and support what is being done and work within the confines of the legal framework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while 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lobbying  for more space and more  refined regulations and stronger instit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Education &amp; research institutions need to be proactive &amp; responsive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 their dealings in forestry be prepared to learn from and also to provide relevant  technical support  to the public extension system and to the private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clusion (Contd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Capable and more efficient organizations and teams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re required to coordinate national efforts and to effectively handle international negotiations /agreements and to mobilze re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Co-managed &amp; co-owned national data bas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s needed to track changes in forest resources and to compose experiences, facts &amp; figures for policy revision, research and education purpo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Establishing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egular discussion forum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of “wise men” of the land will certainly to reflect on past experiences (in Ethiopia and elsewhere) and on policies and their implementation so as to inform forestry development in Ethiop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0948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I THANK YOU ALL FOR YOUR ATTENTION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rojected population and fuelwood demand (2010-2019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5" descr=""/>
          <p:cNvPicPr/>
          <p:nvPr/>
        </p:nvPicPr>
        <p:blipFill>
          <a:blip r:embed="rId1"/>
          <a:stretch/>
        </p:blipFill>
        <p:spPr>
          <a:xfrm>
            <a:off x="536400" y="1292400"/>
            <a:ext cx="822348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Area (Ha) of plantation required to meet projected annual demand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3" descr=""/>
          <p:cNvPicPr/>
          <p:nvPr/>
        </p:nvPicPr>
        <p:blipFill>
          <a:blip r:embed="rId1"/>
          <a:stretch/>
        </p:blipFill>
        <p:spPr>
          <a:xfrm>
            <a:off x="536400" y="1292400"/>
            <a:ext cx="8223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33520" y="685440"/>
            <a:ext cx="7315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3300"/>
                </a:solidFill>
                <a:latin typeface="Areal black"/>
              </a:rPr>
              <a:t>Remnant of NF under “sieg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eal black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993600" y="1219320"/>
            <a:ext cx="70390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80520" y="12193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pulation pressure and large scale investment are fueling major land use changes in forests and woodlan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 current development path will result in the clearance of some 9 million ha of land for agriculture between 2010 and 2030 (FDRE, 201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n the other hand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orestry education, research  and development activities are expan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e have abundant labor &amp; land, and favorable climatic conditions for forestry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ut the country is wood deficit, both at national and household levels, and as consequences deforestation and import bills are increasing unabat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o what are the challenges and under exploited opportunitie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hat do the forest policy, strategies, and laws and other major documents say about the secto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ckground (Contd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2. Forest policy in a historic perspectiv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52280" y="837720"/>
            <a:ext cx="87631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Forest policy is a process; it is always in the making.  It has  a historic &amp; future dimension. But in our case, it seems that we come back to “square one”. Examples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a) Italians initiated extensive forestry program (1936-41);  but forgotten after libera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b) The Imperial government :  Allowed state, private, and communal ownership of forests; but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extensive deforestation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for agricultural expansion continu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c) The military government (till 1991) : assumed all forestry development responsibilities, and was engaged in major plantations and in forest protection. But the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state maintained ownership that discouraged effective community &amp; individual participation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in forest develop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76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d) From mid 1990s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huge institutional and organizational vacuum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was created as the state moved away from forestry, (though in some regional states concerted efforts are being made to address this challenge – e.g. Oromia and Amhara and some NGOs notably REST in Tigray and ORDA in Amhara are actively involved in forestry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6840" y="53352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Forestry development in Ethiopia has remained highly dependent on the following major factors (Melaku, 2008)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. Land tenure (land ownership): All tenure (entitlements) on land and natural resources emanate from the legal necessity of state owne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.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Government priority: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iority has been for food production, but agricultural productivity remains still low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Forestry needs land “not needed” for agricultur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Improvement in agricultural productivity reduces deforestation and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well managed forests better support agricul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stitutional and policy volatility : Major changes in political orientation and frequent institutional changes did not allow the evolution of mature forest polic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- 3 contrasting systems in the last fifty years alone!  Difficult to digest/quickly harmonize local level institutions and create sense of continuity for farme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olicy failure and institutional instability have since long undermined tree planting decisions of Ethiopian farm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3:30:08Z</dcterms:created>
  <dc:creator>user</dc:creator>
  <dc:description/>
  <dc:language>en-US</dc:language>
  <cp:lastModifiedBy>HKassa</cp:lastModifiedBy>
  <cp:lastPrinted>2012-07-23T05:40:45Z</cp:lastPrinted>
  <dcterms:modified xsi:type="dcterms:W3CDTF">2012-07-23T05:47:21Z</dcterms:modified>
  <cp:revision>597</cp:revision>
  <dc:subject/>
  <dc:title>ORRENTATION :  on ecbp Curricula &amp; Its Demand   for Implementation</dc:title>
</cp:coreProperties>
</file>